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E1C-8456-4DCE-AAB6-2EC2E29A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EC5-527D-4E71-8D42-D15415F4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E26-02F9-4917-8476-F218F9A2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399-621D-4721-8D8F-CEFB54B4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2C10-3C5A-42F5-8FAC-32A054A1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4DCC-2B7D-4F42-8E7A-D18A26C0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2A8C-E273-4C31-8421-539ACB9D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3FD2-0DA8-4CB3-B243-44713846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F2C9-6052-49E4-861C-D9DC3BAD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3F24-CE82-4454-9B4A-A0331781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9659-74C1-4607-830D-AA6AD264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865-9BCB-40B3-82F5-1EDC83D7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8D00-9915-469C-81B2-6A75FEBC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6EB7-7729-4134-BA2B-FD507676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5D05-E67D-43C8-8BC4-877E0CBC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C7DB-AAC7-4398-A481-4DE0C881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027E-106D-4604-8B75-1E89EE6F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D49-FCCD-4563-9594-EDE35D86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54A-3366-4B6E-8FBD-09C950AF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650-92B0-4EA0-9996-1BFDCEB6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DE5-6217-48BE-BE96-6876920D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1FF-33F2-4E0E-90F6-7FD1F9C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E6A-877C-4077-BBD9-344198EE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46C-01B5-44AB-AAB5-2074150D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1CA8-5C56-423A-A104-6954077ECB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5c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D044-7ECE-4F24-B756-3DD18ACD4C8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d6d5c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5c6"/>
                </a:solidFill>
                <a:latin typeface="Arial"/>
              </a:rPr>
              <a:t>Earth Science</a:t>
            </a:r>
            <a:endParaRPr b="0" lang="en-US" sz="5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Charlie Wojc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3 Properties of Mineral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a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10529" t="10633" r="10529" b="12349"/>
          <a:stretch/>
        </p:blipFill>
        <p:spPr>
          <a:xfrm>
            <a:off x="5867280" y="205740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505320" y="4419720"/>
            <a:ext cx="29718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Sedimentary Rock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44832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Igneous 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86764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Metamorphic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4956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Earths layer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u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er cor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ner co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352680" y="15238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5c6"/>
                </a:solidFill>
                <a:latin typeface="Arial"/>
              </a:rPr>
              <a:t>Plate tectonics &amp; Continental Drift</a:t>
            </a:r>
            <a:endParaRPr b="0" lang="en-US" sz="40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7242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Spreading Boundarie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095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Fracture Boundarie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43736" r="0" b="7401"/>
          <a:stretch/>
        </p:blipFill>
        <p:spPr>
          <a:xfrm>
            <a:off x="762120" y="2666880"/>
            <a:ext cx="7467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olliding Boundarie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29259" b="55927"/>
          <a:stretch/>
        </p:blipFill>
        <p:spPr>
          <a:xfrm>
            <a:off x="1981080" y="2286000"/>
            <a:ext cx="4572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Earthquake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pan’s Earthqua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Volcano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5673"/>
          <a:stretch/>
        </p:blipFill>
        <p:spPr>
          <a:xfrm>
            <a:off x="1295280" y="1676520"/>
            <a:ext cx="638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7:24:33Z</dcterms:created>
  <dc:creator>cwojcik</dc:creator>
  <dc:description/>
  <dc:language>en-US</dc:language>
  <cp:lastModifiedBy>cwojcik</cp:lastModifiedBy>
  <dcterms:modified xsi:type="dcterms:W3CDTF">2011-03-18T17:48:45Z</dcterms:modified>
  <cp:revision>4</cp:revision>
  <dc:subject/>
  <dc:title>Earth Science</dc:title>
</cp:coreProperties>
</file>